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31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jpeg" ContentType="image/jpeg"/>
  <Override PartName="/ppt/media/image32.wmf" ContentType="image/x-wmf"/>
  <Override PartName="/ppt/media/image19.wmf" ContentType="image/x-wmf"/>
  <Override PartName="/ppt/media/image18.jpeg" ContentType="image/jpeg"/>
  <Override PartName="/ppt/media/image17.wmf" ContentType="image/x-wmf"/>
  <Override PartName="/ppt/media/image16.wmf" ContentType="image/x-wmf"/>
  <Override PartName="/ppt/media/image14.png" ContentType="image/png"/>
  <Override PartName="/ppt/media/image10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3.wmf" ContentType="image/x-wmf"/>
  <Override PartName="/ppt/media/image34.wmf" ContentType="image/x-wmf"/>
  <Override PartName="/ppt/media/image42.jpeg" ContentType="image/jpeg"/>
  <Override PartName="/ppt/media/image35.wmf" ContentType="image/x-wmf"/>
  <Override PartName="/ppt/media/image3.jpeg" ContentType="image/jpeg"/>
  <Override PartName="/ppt/media/image36.wmf" ContentType="image/x-wmf"/>
  <Override PartName="/ppt/media/image8.jpeg" ContentType="image/jpeg"/>
  <Override PartName="/ppt/media/image39.jpeg" ContentType="image/jpeg"/>
  <Override PartName="/ppt/media/image15.wmf" ContentType="image/x-wmf"/>
  <Override PartName="/ppt/media/image41.jpeg" ContentType="image/jpeg"/>
  <Override PartName="/ppt/media/image37.wmf" ContentType="image/x-wmf"/>
  <Override PartName="/ppt/media/image43.jpeg" ContentType="image/jpeg"/>
  <Override PartName="/ppt/media/image7.jpeg" ContentType="image/jpeg"/>
  <Override PartName="/ppt/media/image28.jpeg" ContentType="image/jpeg"/>
  <Override PartName="/ppt/media/image5.jpeg" ContentType="image/jpeg"/>
  <Override PartName="/ppt/media/image40.png" ContentType="image/png"/>
  <Override PartName="/ppt/media/image38.wmf" ContentType="image/x-wmf"/>
  <Override PartName="/ppt/media/image4.jpeg" ContentType="image/jpeg"/>
  <Override PartName="/ppt/media/image2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7077075" cy="9004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7077600" cy="900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4008240" y="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287360" y="676080"/>
            <a:ext cx="4502160" cy="337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0" y="8553600"/>
            <a:ext cx="306720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400824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CF42D0-19EC-4F7C-A124-521A72AFD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5A63336-A447-44D0-8A51-6489AFC95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FF92F74-B186-4D8D-A177-01240E33C0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66C661C-ACE6-47BE-A6C8-75F7E2B3A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1ABFEB7-C471-48F4-9D90-D4B9E9B41F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8CF704B-452F-4CC9-A22F-DAC0075AFB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26CCE4E-C0B3-42D0-85B5-3D9C2834D0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3F402D-2902-4EED-8854-F28528A109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1DD5A4E-DD9E-4E88-B0E7-36DAAB527B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D83D5F7-ADAC-4FFE-B631-09F625ABC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2A0F0AC-5AC9-462C-9329-84903CC77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77EC497-B57F-40CF-A2D4-AA2C6439BB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8EE7FFA-9331-4CEE-AE14-88DC26AA7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726B63D-DAD9-46E3-AC7B-0CE8C8BC26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D73A9C3-A9D0-4A22-9094-6AD57C93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FF2B759-CBDB-41E8-87E7-B8CC10060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3E50446-ED5B-4E89-BBDC-42D803BBA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A891D3F-1140-4A31-889A-DAB2598EFC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9D05C4-1279-4B8C-ACAB-C66AF4593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EC47FF2-BA2C-42AB-9EAD-39A9C11153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3491934-6B4F-4100-B70E-3FB1D6920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lide Number Placeholder 3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514E1E9-B116-4E4D-9DE0-B9F09DADA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14FA729-5234-4B95-8F85-3139F2976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8BB1E5-6FD4-42CE-AC30-9FD637A1A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287360" y="676440"/>
            <a:ext cx="4502160" cy="337644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707760" y="4276440"/>
            <a:ext cx="5661000" cy="405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4008600" y="8553600"/>
            <a:ext cx="306684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82001EE-C85A-4AD9-9D80-3B57AF325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body"/>
          </p:nvPr>
        </p:nvSpPr>
        <p:spPr>
          <a:xfrm>
            <a:off x="942840" y="4276440"/>
            <a:ext cx="5191200" cy="4051080"/>
          </a:xfrm>
          <a:prstGeom prst="rect">
            <a:avLst/>
          </a:prstGeom>
          <a:noFill/>
          <a:ln w="0">
            <a:noFill/>
          </a:ln>
        </p:spPr>
        <p:txBody>
          <a:bodyPr lIns="89280" rIns="89280" tIns="43920" bIns="439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ldImg"/>
          </p:nvPr>
        </p:nvSpPr>
        <p:spPr>
          <a:xfrm>
            <a:off x="1297080" y="682560"/>
            <a:ext cx="4483080" cy="33624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2AE94-3A5E-4534-BDE0-0948C083D1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2B49E-391B-44BB-8B77-5F0696039E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0743A-691C-4817-9353-0A3FC3614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5788D-773E-43C3-A4EF-D33797682C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15595-F425-4C7A-9BB5-8B9B2E23049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D912-541C-4E00-9ECB-59C71FDBEEB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4336-3B81-4D90-9BE1-EBAFB5C41A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4295-E6F2-49A0-8DB9-ED3D4B1500E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7BC0-6C32-4A4E-8182-2C01E31D0BD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859D3-CF0E-4120-A06E-3829279F8FB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596F-A68D-449C-9943-094D29C323A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9D6F-760C-4FFC-A723-C437CB24713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61D9-F7A0-4507-B9CF-237C4D6A32E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E431-94C0-4230-9144-49420C02909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2A5C-9B03-49D4-8575-6C59E3A6341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A82-DDD4-4614-A89F-CC66FBC1D55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80AB-E624-413E-9B9E-9DE10C154B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C78A8-C29C-4C47-8F2A-F00ED7D1AE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27F986-23A4-47FB-98D7-6AE3AF504F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D6CE4-89FE-4183-AB6B-880E57D82D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34D21-0E74-4968-83BF-FC098AD1A1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00381-3FBD-4E73-A04C-311EBF35E2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B75C2-4D0F-4D66-8C42-491BE3696F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FE1D8-8071-4276-BA0B-36B2D7EF5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7C443-3A4B-4363-ACE2-250FB3FAA8B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346AB-2278-4F04-87C5-6D677DBB156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6.wmf"/><Relationship Id="rId6" Type="http://schemas.openxmlformats.org/officeDocument/2006/relationships/image" Target="../media/image37.wmf"/><Relationship Id="rId7" Type="http://schemas.openxmlformats.org/officeDocument/2006/relationships/image" Target="../media/image26.wmf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jpeg"/><Relationship Id="rId4" Type="http://schemas.openxmlformats.org/officeDocument/2006/relationships/image" Target="../media/image27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743200" y="236232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Organiz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133720" y="45720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27A3F-CB8D-4F4C-94F1-48CF9ECF8E0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467480" y="33526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2" name="Organization Chart 3"/>
          <p:cNvGrpSpPr/>
          <p:nvPr/>
        </p:nvGrpSpPr>
        <p:grpSpPr>
          <a:xfrm>
            <a:off x="380880" y="1935000"/>
            <a:ext cx="6171840" cy="3773160"/>
            <a:chOff x="380880" y="1935000"/>
            <a:chExt cx="6171840" cy="3773160"/>
          </a:xfrm>
        </p:grpSpPr>
        <p:cxnSp>
          <p:nvCxnSpPr>
            <p:cNvPr id="253" name="_s1029"/>
            <p:cNvCxnSpPr>
              <a:stCxn id="254" idx="1"/>
              <a:endCxn id="255" idx="2"/>
            </p:cNvCxnSpPr>
            <p:nvPr/>
          </p:nvCxnSpPr>
          <p:spPr>
            <a:xfrm rot="10800000">
              <a:off x="2922840" y="4678200"/>
              <a:ext cx="362160" cy="68796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6" name="_s1031"/>
            <p:cNvCxnSpPr>
              <a:stCxn id="257" idx="3"/>
              <a:endCxn id="255" idx="2"/>
            </p:cNvCxnSpPr>
            <p:nvPr/>
          </p:nvCxnSpPr>
          <p:spPr>
            <a:xfrm flipV="1">
              <a:off x="2559240" y="4677840"/>
              <a:ext cx="365040" cy="68688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58" name="_s1032"/>
            <p:cNvCxnSpPr>
              <a:stCxn id="255" idx="0"/>
              <a:endCxn id="259" idx="2"/>
            </p:cNvCxnSpPr>
            <p:nvPr/>
          </p:nvCxnSpPr>
          <p:spPr>
            <a:xfrm flipV="1">
              <a:off x="2923200" y="3649320"/>
              <a:ext cx="1800" cy="345240"/>
            </a:xfrm>
            <a:prstGeom prst="bentConnector2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0" name="_s1034"/>
            <p:cNvCxnSpPr>
              <a:stCxn id="261" idx="0"/>
              <a:endCxn id="262" idx="2"/>
            </p:cNvCxnSpPr>
            <p:nvPr/>
          </p:nvCxnSpPr>
          <p:spPr>
            <a:xfrm flipV="1" rot="16200000">
              <a:off x="4663440" y="2162160"/>
              <a:ext cx="330120" cy="127260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263" name="_s1035"/>
            <p:cNvCxnSpPr>
              <a:stCxn id="259" idx="0"/>
              <a:endCxn id="262" idx="2"/>
            </p:cNvCxnSpPr>
            <p:nvPr/>
          </p:nvCxnSpPr>
          <p:spPr>
            <a:xfrm flipH="1" flipV="1" rot="5400000">
              <a:off x="3393000" y="2163600"/>
              <a:ext cx="330120" cy="1269720"/>
            </a:xfrm>
            <a:prstGeom prst="bentConnector3">
              <a:avLst>
                <a:gd name="adj1" fmla="val 35043"/>
              </a:avLst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262" name="_s1036"/>
            <p:cNvSpPr/>
            <p:nvPr/>
          </p:nvSpPr>
          <p:spPr>
            <a:xfrm>
              <a:off x="3103920" y="1935000"/>
              <a:ext cx="2178360" cy="685080"/>
            </a:xfrm>
            <a:prstGeom prst="flowChartAlternateProcess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LABORATORY </a:t>
              </a:r>
              <a:br>
                <a:rPr sz="2200"/>
              </a:b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DIRECTO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_s1037"/>
            <p:cNvSpPr/>
            <p:nvPr/>
          </p:nvSpPr>
          <p:spPr>
            <a:xfrm>
              <a:off x="183312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87df9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CHARGE</a:t>
              </a:r>
              <a:br>
                <a:rPr sz="1800"/>
              </a:b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_s1038"/>
            <p:cNvSpPr/>
            <p:nvPr/>
          </p:nvSpPr>
          <p:spPr>
            <a:xfrm>
              <a:off x="4374360" y="296388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fr-FR" sz="1800" spc="-1" strike="noStrike">
                  <a:solidFill>
                    <a:srgbClr val="ffffff"/>
                  </a:solidFill>
                  <a:latin typeface="Verdana"/>
                </a:rPr>
                <a:t>MANAGER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_s1040"/>
            <p:cNvSpPr/>
            <p:nvPr/>
          </p:nvSpPr>
          <p:spPr>
            <a:xfrm>
              <a:off x="1834200" y="3992760"/>
              <a:ext cx="2176920" cy="685080"/>
            </a:xfrm>
            <a:prstGeom prst="roundRect">
              <a:avLst>
                <a:gd name="adj" fmla="val 16667"/>
              </a:avLst>
            </a:prstGeom>
            <a:solidFill>
              <a:srgbClr val="00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ASSISTANT CHAR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_s1041"/>
            <p:cNvSpPr/>
            <p:nvPr/>
          </p:nvSpPr>
          <p:spPr>
            <a:xfrm>
              <a:off x="380880" y="5021640"/>
              <a:ext cx="2178360" cy="68508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_s1043"/>
            <p:cNvSpPr/>
            <p:nvPr/>
          </p:nvSpPr>
          <p:spPr>
            <a:xfrm>
              <a:off x="3285360" y="5021640"/>
              <a:ext cx="2176560" cy="686520"/>
            </a:xfrm>
            <a:prstGeom prst="roundRect">
              <a:avLst>
                <a:gd name="adj" fmla="val 16667"/>
              </a:avLst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9280" rIns="89280" tIns="44640" bIns="44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r>
                <a:rPr b="1" lang="fr-FR" sz="1800" spc="-1" strike="noStrike">
                  <a:solidFill>
                    <a:srgbClr val="000000"/>
                  </a:solidFill>
                  <a:latin typeface="Verdana"/>
                </a:rPr>
                <a:t>TECHNOLOGIS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4191120" y="1371600"/>
            <a:ext cx="0" cy="5335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77120" y="1752480"/>
            <a:ext cx="2057400" cy="1676520"/>
          </a:xfrm>
          <a:prstGeom prst="flowChartDecision">
            <a:avLst/>
          </a:prstGeom>
          <a:solidFill>
            <a:srgbClr val="9999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705720" y="3886200"/>
            <a:ext cx="1600200" cy="1295280"/>
          </a:xfrm>
          <a:prstGeom prst="flowChartDecision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858000" y="22096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 DIR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0" y="4267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R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1371600"/>
            <a:ext cx="304560" cy="3808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219320" y="609480"/>
            <a:ext cx="6781680" cy="762120"/>
          </a:xfrm>
          <a:prstGeom prst="flowChartProcess">
            <a:avLst/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HOSPITAL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C50E0-CAF4-40B5-A8DA-550D280B870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SO 15189 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s responsibility and authority to overse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s directly to the decision-making level of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ISO Logo"/>
          <p:cNvPicPr/>
          <p:nvPr/>
        </p:nvPicPr>
        <p:blipFill>
          <a:blip r:embed="rId1"/>
          <a:stretch/>
        </p:blipFill>
        <p:spPr>
          <a:xfrm>
            <a:off x="4038480" y="5029200"/>
            <a:ext cx="2819520" cy="809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6781680" y="3809880"/>
            <a:ext cx="1455840" cy="228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F6761-52FF-4A94-ADF9-8044038FDE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y Manager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15328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85000"/>
              </a:lnSpc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ssure compli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view all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, coordinate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vestigate defici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orm decision mak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B31D7-82A2-406D-9AB4-DD3D6EEEDAE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3059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lanning for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80880" y="152388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pproaches vary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with local sit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y factors influence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tarting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include all quality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lements i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y implement in stepwis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6172200" y="1447920"/>
            <a:ext cx="2451240" cy="37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133E82-A0E9-4D71-8E02-3B9727EC98C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ep in mi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municate, be transpar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feasible timel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realistic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able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t priorities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ed stepw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rcRect l="45569" t="0" r="0" b="0"/>
          <a:stretch/>
        </p:blipFill>
        <p:spPr>
          <a:xfrm>
            <a:off x="5638680" y="2057400"/>
            <a:ext cx="255924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29C4E-E8E9-43A2-A3E5-9F162DD04DA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 Gap Analys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termine the gaps, using quality management systems check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task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ioritize 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ick fixe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25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termine w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uld have th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eatest positive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876920" y="2590920"/>
            <a:ext cx="685800" cy="21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724280" y="22860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—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GAP ANALYSI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4724280" y="2587680"/>
            <a:ext cx="3733920" cy="2879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C638E-7CDA-44B5-85AB-F52E394128EF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Gap Analys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-360" y="1295280"/>
            <a:ext cx="85345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ommon problems identifi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est ord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ining level (competence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f technical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ytical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gent and equipment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5715000" y="1447920"/>
            <a:ext cx="3060720" cy="4038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62EE2-2671-41C8-9BF6-6E2C345254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000" spc="-1" strike="noStrike">
                <a:solidFill>
                  <a:srgbClr val="00007d"/>
                </a:solidFill>
                <a:latin typeface="Verdana"/>
              </a:rPr>
              <a:t>Written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Quality Management System Plan should inclu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04920" y="1828800"/>
            <a:ext cx="8686800" cy="3139560"/>
          </a:xfrm>
          <a:prstGeom prst="rect">
            <a:avLst/>
          </a:prstGeom>
          <a:solidFill>
            <a:srgbClr val="bd8d47"/>
          </a:solidFill>
          <a:ln w="7632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at should be d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o will be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when (timel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how many resources are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AU" sz="3200" spc="-1" strike="noStrike">
                <a:solidFill>
                  <a:srgbClr val="000000"/>
                </a:solidFill>
                <a:latin typeface="Verdana"/>
              </a:rPr>
              <a:t>benchma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4920" y="5105520"/>
            <a:ext cx="868680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600" spc="-1" strike="noStrike">
                <a:solidFill>
                  <a:srgbClr val="ffffff"/>
                </a:solidFill>
                <a:latin typeface="Verdana"/>
              </a:rPr>
              <a:t>Must be available to all staf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B03AA-113B-4149-8FA5-72494DB172B9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mple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8381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 to comple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prepare for implementation in s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ure resources are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use a 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be sure everyone knows their responsibil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en-AU" sz="28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AU" sz="3600" spc="-1" strike="noStrike">
                <a:solidFill>
                  <a:srgbClr val="00007d"/>
                </a:solidFill>
                <a:latin typeface="Verdana"/>
              </a:rPr>
              <a:t>th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" descr=""/>
          <p:cNvPicPr/>
          <p:nvPr/>
        </p:nvPicPr>
        <p:blipFill>
          <a:blip r:embed="rId1"/>
          <a:stretch/>
        </p:blipFill>
        <p:spPr>
          <a:xfrm>
            <a:off x="3886200" y="3657600"/>
            <a:ext cx="3124080" cy="335268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4419720" y="4952880"/>
            <a:ext cx="2057400" cy="703440"/>
          </a:xfrm>
          <a:prstGeom prst="rect">
            <a:avLst/>
          </a:prstGeom>
          <a:solidFill>
            <a:srgbClr val="0fc72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26A22-2A51-4B5C-B93D-7E1B18649B0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05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5341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 the end of this session, you will be able t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organizational elements needed for a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management roles and responsibilities in a qualit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00000"/>
              </a:lnSpc>
              <a:spcBef>
                <a:spcPts val="1576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rocess for designing, implementing, maintaining, and improving the laboratory quality management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-27432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e purpose of a quality manu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43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A932F-72FB-4317-81B7-BC29EA30E75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Gantt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1"/>
          <a:stretch/>
        </p:blipFill>
        <p:spPr>
          <a:xfrm>
            <a:off x="762120" y="1066680"/>
            <a:ext cx="7572240" cy="530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C6C57-7C8C-40AE-9AE6-DBA48F32AAE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vide Resour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6324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nancial requirements/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sonnel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itional sta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kills, training needed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acilities, equipment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lies, compu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553080" y="533520"/>
            <a:ext cx="2286000" cy="21351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6593040" y="2286000"/>
            <a:ext cx="1744560" cy="281952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3"/>
          <a:stretch/>
        </p:blipFill>
        <p:spPr>
          <a:xfrm>
            <a:off x="5638680" y="4267080"/>
            <a:ext cx="1795680" cy="18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86E40-741F-4F9A-BBB5-F8CD635BFCB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onitoring Compli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ssign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velop indica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establish monitoring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nduct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management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5867280" y="1295280"/>
            <a:ext cx="2938680" cy="4419720"/>
          </a:xfrm>
          <a:prstGeom prst="rect">
            <a:avLst/>
          </a:prstGeom>
          <a:ln w="76320">
            <a:solidFill>
              <a:srgbClr val="bd8d47"/>
            </a:solidFill>
            <a:miter/>
          </a:ln>
        </p:spPr>
      </p:pic>
      <p:pic>
        <p:nvPicPr>
          <p:cNvPr id="309" name="" descr=""/>
          <p:cNvPicPr/>
          <p:nvPr/>
        </p:nvPicPr>
        <p:blipFill>
          <a:blip r:embed="rId2"/>
          <a:stretch/>
        </p:blipFill>
        <p:spPr>
          <a:xfrm>
            <a:off x="5410080" y="4267080"/>
            <a:ext cx="2274840" cy="19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425B7-10E1-46A7-8294-4429F2FA7D0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rcRect l="5213" t="0" r="5213" b="8392"/>
          <a:stretch/>
        </p:blipFill>
        <p:spPr>
          <a:xfrm>
            <a:off x="1371600" y="1371600"/>
            <a:ext cx="6575400" cy="4452840"/>
          </a:xfrm>
          <a:prstGeom prst="rect">
            <a:avLst/>
          </a:prstGeom>
          <a:ln w="57240">
            <a:solidFill>
              <a:srgbClr val="bd8d47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B73A09-239E-4AE3-B8A0-65B56837E5D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2"/>
          <p:cNvSpPr/>
          <p:nvPr/>
        </p:nvSpPr>
        <p:spPr>
          <a:xfrm>
            <a:off x="304920" y="457200"/>
            <a:ext cx="6705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5000"/>
              </a:lnSpc>
              <a:spcAft>
                <a:spcPts val="11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What is a Quality Manual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151920" y="990360"/>
            <a:ext cx="84582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A document describing the quality management system of an organiz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sential organizational st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nagement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5867280" y="2438280"/>
            <a:ext cx="3276720" cy="3353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544A1-1DD2-4641-BB5F-1CC3C788A1B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AU" sz="3600" spc="-1" strike="noStrike">
                <a:solidFill>
                  <a:srgbClr val="00007d"/>
                </a:solidFill>
                <a:latin typeface="Verdana"/>
              </a:rPr>
              <a:t>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unicate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serves as a framework for meeting quality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demonstrates management’s </a:t>
            </a:r>
            <a:br>
              <a:rPr sz="3200"/>
            </a:br>
            <a:r>
              <a:rPr b="0" lang="en-AU" sz="3200" spc="-1" strike="noStrike">
                <a:solidFill>
                  <a:srgbClr val="000000"/>
                </a:solidFill>
                <a:latin typeface="Verdana"/>
              </a:rPr>
              <a:t>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543800" y="46483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QU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20D15-B396-43D4-BBCE-B5C0E35A5F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intaining the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unicates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s management approv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requires upda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6400800" y="4572000"/>
            <a:ext cx="1946160" cy="162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tretch/>
        </p:blipFill>
        <p:spPr>
          <a:xfrm>
            <a:off x="4419720" y="2895480"/>
            <a:ext cx="270036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6B38E-A5E5-4B4B-BAF0-0E6B4ECABBE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ccessful implementation requi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89917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management comm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understanding the benefits of a quality managemen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ngaging staff at all lev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striving to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continually impr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having realistic </a:t>
            </a:r>
            <a:br>
              <a:rPr sz="2800"/>
            </a:br>
            <a:r>
              <a:rPr b="0" lang="en-AU" sz="2800" spc="-1" strike="noStrike">
                <a:solidFill>
                  <a:srgbClr val="000000"/>
                </a:solidFill>
                <a:latin typeface="Verdana"/>
              </a:rPr>
              <a:t>expec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rcRect l="14069" t="0" r="8441" b="13427"/>
          <a:stretch/>
        </p:blipFill>
        <p:spPr>
          <a:xfrm>
            <a:off x="4648320" y="3581280"/>
            <a:ext cx="3657600" cy="2570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6258-4B15-4793-9004-F3C63C5FB94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" descr=""/>
          <p:cNvPicPr/>
          <p:nvPr/>
        </p:nvPicPr>
        <p:blipFill>
          <a:blip r:embed="rId1"/>
          <a:srcRect l="0" t="0" r="0" b="17676"/>
          <a:stretch/>
        </p:blipFill>
        <p:spPr>
          <a:xfrm>
            <a:off x="2362320" y="457200"/>
            <a:ext cx="6781680" cy="5521320"/>
          </a:xfrm>
          <a:prstGeom prst="rect">
            <a:avLst/>
          </a:prstGeom>
          <a:ln w="0">
            <a:noFill/>
          </a:ln>
        </p:spPr>
      </p:pic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 flipH="1" rot="12600">
            <a:off x="837720" y="3962520"/>
            <a:ext cx="2692440" cy="2109600"/>
          </a:xfrm>
          <a:prstGeom prst="rect">
            <a:avLst/>
          </a:prstGeom>
          <a:ln w="0">
            <a:noFill/>
          </a:ln>
        </p:spPr>
      </p:pic>
      <p:pic>
        <p:nvPicPr>
          <p:cNvPr id="327" name="" descr=""/>
          <p:cNvPicPr/>
          <p:nvPr/>
        </p:nvPicPr>
        <p:blipFill>
          <a:blip r:embed="rId3"/>
          <a:stretch/>
        </p:blipFill>
        <p:spPr>
          <a:xfrm>
            <a:off x="2666880" y="3276720"/>
            <a:ext cx="2181240" cy="1646280"/>
          </a:xfrm>
          <a:prstGeom prst="rect">
            <a:avLst/>
          </a:prstGeom>
          <a:ln w="0">
            <a:noFill/>
          </a:ln>
        </p:spPr>
      </p:pic>
      <p:pic>
        <p:nvPicPr>
          <p:cNvPr id="328" name="" descr=""/>
          <p:cNvPicPr/>
          <p:nvPr/>
        </p:nvPicPr>
        <p:blipFill>
          <a:blip r:embed="rId4"/>
          <a:stretch/>
        </p:blipFill>
        <p:spPr>
          <a:xfrm>
            <a:off x="4343400" y="1755720"/>
            <a:ext cx="1828800" cy="178596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5620680" y="2752200"/>
            <a:ext cx="3161880" cy="3371400"/>
            <a:chOff x="5620680" y="2752200"/>
            <a:chExt cx="3161880" cy="3371400"/>
          </a:xfrm>
        </p:grpSpPr>
        <p:sp>
          <p:nvSpPr>
            <p:cNvPr id="330" name="_s195610"/>
            <p:cNvSpPr/>
            <p:nvPr/>
          </p:nvSpPr>
          <p:spPr>
            <a:xfrm>
              <a:off x="6339600" y="2752200"/>
              <a:ext cx="1722960" cy="2397600"/>
            </a:xfrm>
            <a:custGeom>
              <a:avLst/>
              <a:gdLst>
                <a:gd name="textAreaLeft" fmla="*/ 0 w 1722960"/>
                <a:gd name="textAreaRight" fmla="*/ 1723320 w 1722960"/>
                <a:gd name="textAreaTop" fmla="*/ 0 h 2397600"/>
                <a:gd name="textAreaBottom" fmla="*/ 2397960 h 2397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_s195611"/>
            <p:cNvSpPr/>
            <p:nvPr/>
          </p:nvSpPr>
          <p:spPr>
            <a:xfrm rot="7200000">
              <a:off x="6238080" y="3655800"/>
              <a:ext cx="2397600" cy="172332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3320"/>
                <a:gd name="textAreaBottom" fmla="*/ 1723680 h 17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_s195613"/>
            <p:cNvSpPr/>
            <p:nvPr/>
          </p:nvSpPr>
          <p:spPr>
            <a:xfrm rot="14400000">
              <a:off x="5767200" y="3658680"/>
              <a:ext cx="2397600" cy="1722960"/>
            </a:xfrm>
            <a:custGeom>
              <a:avLst/>
              <a:gdLst>
                <a:gd name="textAreaLeft" fmla="*/ 0 w 2397600"/>
                <a:gd name="textAreaRight" fmla="*/ 2397960 w 2397600"/>
                <a:gd name="textAreaTop" fmla="*/ 0 h 1722960"/>
                <a:gd name="textAreaBottom" fmla="*/ 1723320 h 172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_s195608"/>
            <p:cNvSpPr/>
            <p:nvPr/>
          </p:nvSpPr>
          <p:spPr>
            <a:xfrm>
              <a:off x="767304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_s195609"/>
            <p:cNvSpPr/>
            <p:nvPr/>
          </p:nvSpPr>
          <p:spPr>
            <a:xfrm>
              <a:off x="6855480" y="516132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_s195612"/>
            <p:cNvSpPr/>
            <p:nvPr/>
          </p:nvSpPr>
          <p:spPr>
            <a:xfrm>
              <a:off x="6037560" y="3191400"/>
              <a:ext cx="691560" cy="96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6" name="" descr=""/>
          <p:cNvPicPr/>
          <p:nvPr/>
        </p:nvPicPr>
        <p:blipFill>
          <a:blip r:embed="rId5"/>
          <a:stretch/>
        </p:blipFill>
        <p:spPr>
          <a:xfrm>
            <a:off x="6781680" y="228600"/>
            <a:ext cx="2129040" cy="134136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6"/>
          <a:stretch/>
        </p:blipFill>
        <p:spPr>
          <a:xfrm>
            <a:off x="5791320" y="1295280"/>
            <a:ext cx="1431720" cy="121284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 rot="2508000">
            <a:off x="6094800" y="1599840"/>
            <a:ext cx="1113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lity Man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7"/>
          <a:stretch/>
        </p:blipFill>
        <p:spPr>
          <a:xfrm>
            <a:off x="6477120" y="3429000"/>
            <a:ext cx="1600200" cy="1352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152280" y="53352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407EA-A68C-406A-8A70-699DEC2D8BD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nt to 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ign responsibility for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ocat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nd distribute a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compliance with quality management system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1FF4B-E59A-4992-BC0E-670C013249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457200"/>
            <a:ext cx="79246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1066680"/>
            <a:ext cx="5181480" cy="5410080"/>
            <a:chOff x="2133720" y="1066680"/>
            <a:chExt cx="5181480" cy="5410080"/>
          </a:xfrm>
        </p:grpSpPr>
        <p:sp>
          <p:nvSpPr>
            <p:cNvPr id="133" name="AutoShape 4"/>
            <p:cNvSpPr/>
            <p:nvPr/>
          </p:nvSpPr>
          <p:spPr>
            <a:xfrm>
              <a:off x="213372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159200"/>
              <a:ext cx="1261800" cy="1189800"/>
              <a:chOff x="2438280" y="115920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159200"/>
                <a:ext cx="1239120" cy="1189800"/>
                <a:chOff x="2438280" y="115920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159200"/>
                  <a:ext cx="1152360" cy="1189800"/>
                  <a:chOff x="2489760" y="115920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159200"/>
              <a:ext cx="1239840" cy="1189800"/>
              <a:chOff x="4094280" y="115920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159200"/>
              <a:ext cx="1239840" cy="1189800"/>
              <a:chOff x="5694480" y="115920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159200"/>
                <a:ext cx="1153080" cy="1189800"/>
                <a:chOff x="5739840" y="115920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98760"/>
              <a:ext cx="1241280" cy="1189440"/>
              <a:chOff x="2438280" y="249876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516760"/>
              <a:ext cx="1336680" cy="1189440"/>
              <a:chOff x="5638680" y="251676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858120"/>
              <a:ext cx="1239840" cy="1191240"/>
              <a:chOff x="2438280" y="3858120"/>
              <a:chExt cx="1239840" cy="119124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858120"/>
              <a:ext cx="1239840" cy="1191240"/>
              <a:chOff x="4094280" y="3858120"/>
              <a:chExt cx="1239840" cy="119124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207040"/>
              <a:ext cx="1420560" cy="1189440"/>
              <a:chOff x="2362320" y="520704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139000"/>
              <a:ext cx="1239840" cy="1189800"/>
              <a:chOff x="4094280" y="513900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207040"/>
              <a:ext cx="1239840" cy="1189440"/>
              <a:chOff x="5715000" y="520704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50C8B-CFEE-470D-8680-155198DA7D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85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Rememb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is not a science,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t’s a way of think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pend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oday t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gain rewards tomorrow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ffici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fessional, personal satisf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eer 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6553080" y="1143000"/>
            <a:ext cx="2152800" cy="32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53337-72E9-4A51-9EAF-D299C892405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3818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o is Responsible for Qualit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rcRect l="36001" t="26000" r="22500" b="32000"/>
          <a:stretch/>
        </p:blipFill>
        <p:spPr>
          <a:xfrm>
            <a:off x="457200" y="1295280"/>
            <a:ext cx="3287880" cy="24955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2608200" cy="342900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3"/>
          <a:srcRect l="34886" t="0" r="17443" b="0"/>
          <a:stretch/>
        </p:blipFill>
        <p:spPr>
          <a:xfrm>
            <a:off x="5867280" y="1295280"/>
            <a:ext cx="2590920" cy="3706920"/>
          </a:xfrm>
          <a:prstGeom prst="rect">
            <a:avLst/>
          </a:prstGeom>
          <a:ln w="0">
            <a:noFill/>
          </a:ln>
        </p:spPr>
      </p:pic>
      <p:pic>
        <p:nvPicPr>
          <p:cNvPr id="350" name="" descr=""/>
          <p:cNvPicPr/>
          <p:nvPr/>
        </p:nvPicPr>
        <p:blipFill>
          <a:blip r:embed="rId4"/>
          <a:srcRect l="45613" t="25176" r="5213" b="35665"/>
          <a:stretch/>
        </p:blipFill>
        <p:spPr>
          <a:xfrm>
            <a:off x="4952880" y="4343400"/>
            <a:ext cx="3505320" cy="198108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5"/>
          <a:srcRect l="0" t="0" r="26971" b="0"/>
          <a:stretch/>
        </p:blipFill>
        <p:spPr>
          <a:xfrm>
            <a:off x="457200" y="3276720"/>
            <a:ext cx="3276720" cy="3047760"/>
          </a:xfrm>
          <a:prstGeom prst="rect">
            <a:avLst/>
          </a:prstGeom>
          <a:ln w="0">
            <a:noFill/>
          </a:ln>
        </p:spPr>
      </p:pic>
      <p:pic>
        <p:nvPicPr>
          <p:cNvPr id="352" name="" descr=""/>
          <p:cNvPicPr/>
          <p:nvPr/>
        </p:nvPicPr>
        <p:blipFill>
          <a:blip r:embed="rId6"/>
          <a:srcRect l="2557" t="8365" r="7671" b="13383"/>
          <a:stretch/>
        </p:blipFill>
        <p:spPr>
          <a:xfrm>
            <a:off x="3581280" y="4419720"/>
            <a:ext cx="1444680" cy="1904760"/>
          </a:xfrm>
          <a:prstGeom prst="rect">
            <a:avLst/>
          </a:prstGeom>
          <a:ln w="0">
            <a:noFill/>
          </a:ln>
        </p:spPr>
      </p:pic>
      <p:sp>
        <p:nvSpPr>
          <p:cNvPr id="353" name="AutoShape 4"/>
          <p:cNvSpPr/>
          <p:nvPr/>
        </p:nvSpPr>
        <p:spPr>
          <a:xfrm>
            <a:off x="2590920" y="1905120"/>
            <a:ext cx="4038480" cy="3504960"/>
          </a:xfrm>
          <a:prstGeom prst="irregularSeal1">
            <a:avLst/>
          </a:prstGeom>
          <a:solidFill>
            <a:srgbClr val="00007d"/>
          </a:solidFill>
          <a:ln w="38160">
            <a:solidFill>
              <a:srgbClr val="ffd911"/>
            </a:solidFill>
            <a:miter/>
          </a:ln>
          <a:effectLst>
            <a:outerShdw dist="17819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Narrow"/>
              </a:rPr>
              <a:t>EVERYON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3F71E-2E53-4BB3-AAEA-74107DD901A7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867280" y="1904760"/>
            <a:ext cx="28958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Arial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5486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457200" y="533520"/>
            <a:ext cx="5181480" cy="5409720"/>
            <a:chOff x="457200" y="533520"/>
            <a:chExt cx="5181480" cy="5409720"/>
          </a:xfrm>
        </p:grpSpPr>
        <p:sp>
          <p:nvSpPr>
            <p:cNvPr id="357" name="AutoShape 4"/>
            <p:cNvSpPr/>
            <p:nvPr/>
          </p:nvSpPr>
          <p:spPr>
            <a:xfrm>
              <a:off x="457200" y="5335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2701800" y="33811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2670120" y="33728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2931840" y="20782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6"/>
            <p:cNvSpPr/>
            <p:nvPr/>
          </p:nvSpPr>
          <p:spPr>
            <a:xfrm>
              <a:off x="1336680" y="27392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22"/>
            <p:cNvSpPr/>
            <p:nvPr/>
          </p:nvSpPr>
          <p:spPr>
            <a:xfrm>
              <a:off x="1325520" y="26762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24"/>
            <p:cNvSpPr/>
            <p:nvPr/>
          </p:nvSpPr>
          <p:spPr>
            <a:xfrm flipH="1" flipV="1">
              <a:off x="3111120" y="55400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5"/>
            <p:cNvSpPr/>
            <p:nvPr/>
          </p:nvSpPr>
          <p:spPr>
            <a:xfrm flipV="1">
              <a:off x="2849400" y="43689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7"/>
            <p:cNvSpPr/>
            <p:nvPr/>
          </p:nvSpPr>
          <p:spPr>
            <a:xfrm>
              <a:off x="4647960" y="11995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27"/>
            <p:cNvSpPr/>
            <p:nvPr/>
          </p:nvSpPr>
          <p:spPr>
            <a:xfrm>
              <a:off x="3047760" y="13586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27"/>
            <p:cNvSpPr/>
            <p:nvPr/>
          </p:nvSpPr>
          <p:spPr>
            <a:xfrm>
              <a:off x="1371600" y="14083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27"/>
            <p:cNvSpPr/>
            <p:nvPr/>
          </p:nvSpPr>
          <p:spPr>
            <a:xfrm flipH="1">
              <a:off x="1066320" y="12474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Group 65"/>
            <p:cNvGrpSpPr/>
            <p:nvPr/>
          </p:nvGrpSpPr>
          <p:grpSpPr>
            <a:xfrm>
              <a:off x="761760" y="626040"/>
              <a:ext cx="1261800" cy="1189800"/>
              <a:chOff x="761760" y="626040"/>
              <a:chExt cx="1261800" cy="1189800"/>
            </a:xfrm>
          </p:grpSpPr>
          <p:grpSp>
            <p:nvGrpSpPr>
              <p:cNvPr id="372" name="Group 66"/>
              <p:cNvGrpSpPr/>
              <p:nvPr/>
            </p:nvGrpSpPr>
            <p:grpSpPr>
              <a:xfrm>
                <a:off x="761760" y="626040"/>
                <a:ext cx="1239120" cy="1189800"/>
                <a:chOff x="761760" y="626040"/>
                <a:chExt cx="1239120" cy="1189800"/>
              </a:xfrm>
            </p:grpSpPr>
            <p:grpSp>
              <p:nvGrpSpPr>
                <p:cNvPr id="373" name="Group 67"/>
                <p:cNvGrpSpPr/>
                <p:nvPr/>
              </p:nvGrpSpPr>
              <p:grpSpPr>
                <a:xfrm>
                  <a:off x="813240" y="626040"/>
                  <a:ext cx="1152360" cy="1189800"/>
                  <a:chOff x="813240" y="626040"/>
                  <a:chExt cx="1152360" cy="1189800"/>
                </a:xfrm>
              </p:grpSpPr>
              <p:sp>
                <p:nvSpPr>
                  <p:cNvPr id="374" name="Freeform 68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Freeform 69"/>
                  <p:cNvSpPr/>
                  <p:nvPr/>
                </p:nvSpPr>
                <p:spPr>
                  <a:xfrm>
                    <a:off x="813240" y="6260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76" name="Text Box 70"/>
                <p:cNvSpPr/>
                <p:nvPr/>
              </p:nvSpPr>
              <p:spPr>
                <a:xfrm>
                  <a:off x="761760" y="9003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77" name="Text Box 71"/>
              <p:cNvSpPr/>
              <p:nvPr/>
            </p:nvSpPr>
            <p:spPr>
              <a:xfrm>
                <a:off x="784440" y="10479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8" name="Group 72"/>
            <p:cNvGrpSpPr/>
            <p:nvPr/>
          </p:nvGrpSpPr>
          <p:grpSpPr>
            <a:xfrm>
              <a:off x="2417760" y="626040"/>
              <a:ext cx="1239840" cy="1189800"/>
              <a:chOff x="2417760" y="626040"/>
              <a:chExt cx="1239840" cy="1189800"/>
            </a:xfrm>
          </p:grpSpPr>
          <p:sp>
            <p:nvSpPr>
              <p:cNvPr id="379" name="Freeform 73"/>
              <p:cNvSpPr/>
              <p:nvPr/>
            </p:nvSpPr>
            <p:spPr>
              <a:xfrm>
                <a:off x="2458440" y="6260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Text Box 74"/>
              <p:cNvSpPr/>
              <p:nvPr/>
            </p:nvSpPr>
            <p:spPr>
              <a:xfrm>
                <a:off x="2417760" y="10479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1" name="Group 75"/>
            <p:cNvGrpSpPr/>
            <p:nvPr/>
          </p:nvGrpSpPr>
          <p:grpSpPr>
            <a:xfrm>
              <a:off x="4017960" y="626040"/>
              <a:ext cx="1239840" cy="1189800"/>
              <a:chOff x="4017960" y="626040"/>
              <a:chExt cx="1239840" cy="1189800"/>
            </a:xfrm>
          </p:grpSpPr>
          <p:grpSp>
            <p:nvGrpSpPr>
              <p:cNvPr id="382" name="Group 76"/>
              <p:cNvGrpSpPr/>
              <p:nvPr/>
            </p:nvGrpSpPr>
            <p:grpSpPr>
              <a:xfrm>
                <a:off x="4063320" y="626040"/>
                <a:ext cx="1153080" cy="1189800"/>
                <a:chOff x="4063320" y="626040"/>
                <a:chExt cx="1153080" cy="1189800"/>
              </a:xfrm>
            </p:grpSpPr>
            <p:sp>
              <p:nvSpPr>
                <p:cNvPr id="383" name="Freeform 77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8"/>
                <p:cNvSpPr/>
                <p:nvPr/>
              </p:nvSpPr>
              <p:spPr>
                <a:xfrm>
                  <a:off x="4063320" y="6260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5" name="Text Box 79"/>
              <p:cNvSpPr/>
              <p:nvPr/>
            </p:nvSpPr>
            <p:spPr>
              <a:xfrm>
                <a:off x="4017960" y="10522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6" name="Line 27"/>
            <p:cNvSpPr/>
            <p:nvPr/>
          </p:nvSpPr>
          <p:spPr>
            <a:xfrm flipH="1">
              <a:off x="1142640" y="2600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7" name=""/>
            <p:cNvGrpSpPr/>
            <p:nvPr/>
          </p:nvGrpSpPr>
          <p:grpSpPr>
            <a:xfrm>
              <a:off x="761760" y="1965600"/>
              <a:ext cx="1241280" cy="1189440"/>
              <a:chOff x="761760" y="1965600"/>
              <a:chExt cx="1241280" cy="1189440"/>
            </a:xfrm>
          </p:grpSpPr>
          <p:sp>
            <p:nvSpPr>
              <p:cNvPr id="388" name="Freeform 46"/>
              <p:cNvSpPr/>
              <p:nvPr/>
            </p:nvSpPr>
            <p:spPr>
              <a:xfrm>
                <a:off x="766440" y="19656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Text Box 47"/>
              <p:cNvSpPr/>
              <p:nvPr/>
            </p:nvSpPr>
            <p:spPr>
              <a:xfrm>
                <a:off x="761760" y="22521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0" name="Freeform 31"/>
            <p:cNvSpPr/>
            <p:nvPr/>
          </p:nvSpPr>
          <p:spPr>
            <a:xfrm>
              <a:off x="2466720" y="20282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Text Box 43"/>
            <p:cNvSpPr/>
            <p:nvPr/>
          </p:nvSpPr>
          <p:spPr>
            <a:xfrm>
              <a:off x="2506680" y="20448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3962160" y="1983600"/>
              <a:ext cx="1336680" cy="1189440"/>
              <a:chOff x="3962160" y="1983600"/>
              <a:chExt cx="1336680" cy="1189440"/>
            </a:xfrm>
          </p:grpSpPr>
          <p:sp>
            <p:nvSpPr>
              <p:cNvPr id="393" name="Freeform 48"/>
              <p:cNvSpPr/>
              <p:nvPr/>
            </p:nvSpPr>
            <p:spPr>
              <a:xfrm>
                <a:off x="4038480" y="19836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Text Box 55"/>
              <p:cNvSpPr/>
              <p:nvPr/>
            </p:nvSpPr>
            <p:spPr>
              <a:xfrm>
                <a:off x="3962160" y="22834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Line 27"/>
            <p:cNvSpPr/>
            <p:nvPr/>
          </p:nvSpPr>
          <p:spPr>
            <a:xfrm flipH="1">
              <a:off x="1066320" y="38750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"/>
            <p:cNvGrpSpPr/>
            <p:nvPr/>
          </p:nvGrpSpPr>
          <p:grpSpPr>
            <a:xfrm>
              <a:off x="761760" y="3324600"/>
              <a:ext cx="1239840" cy="1190880"/>
              <a:chOff x="761760" y="3324600"/>
              <a:chExt cx="1239840" cy="1190880"/>
            </a:xfrm>
          </p:grpSpPr>
          <p:sp>
            <p:nvSpPr>
              <p:cNvPr id="397" name="Freeform 81"/>
              <p:cNvSpPr/>
              <p:nvPr/>
            </p:nvSpPr>
            <p:spPr>
              <a:xfrm>
                <a:off x="793800" y="33246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Text Box 82"/>
              <p:cNvSpPr/>
              <p:nvPr/>
            </p:nvSpPr>
            <p:spPr>
              <a:xfrm>
                <a:off x="761760" y="35564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9" name=""/>
            <p:cNvGrpSpPr/>
            <p:nvPr/>
          </p:nvGrpSpPr>
          <p:grpSpPr>
            <a:xfrm>
              <a:off x="2417760" y="3324600"/>
              <a:ext cx="1239840" cy="1190880"/>
              <a:chOff x="2417760" y="3324600"/>
              <a:chExt cx="1239840" cy="1190880"/>
            </a:xfrm>
          </p:grpSpPr>
          <p:sp>
            <p:nvSpPr>
              <p:cNvPr id="400" name="Freeform 30"/>
              <p:cNvSpPr/>
              <p:nvPr/>
            </p:nvSpPr>
            <p:spPr>
              <a:xfrm>
                <a:off x="2444760" y="33246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54"/>
              <p:cNvSpPr/>
              <p:nvPr/>
            </p:nvSpPr>
            <p:spPr>
              <a:xfrm>
                <a:off x="2417760" y="3574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2" name="Freeform 50"/>
            <p:cNvSpPr/>
            <p:nvPr/>
          </p:nvSpPr>
          <p:spPr>
            <a:xfrm>
              <a:off x="4038480" y="33177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Text Box 51"/>
            <p:cNvSpPr/>
            <p:nvPr/>
          </p:nvSpPr>
          <p:spPr>
            <a:xfrm>
              <a:off x="4017960" y="33976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27"/>
            <p:cNvSpPr/>
            <p:nvPr/>
          </p:nvSpPr>
          <p:spPr>
            <a:xfrm flipH="1">
              <a:off x="1142640" y="52257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685800" y="4673520"/>
              <a:ext cx="1420560" cy="1189440"/>
              <a:chOff x="685800" y="4673520"/>
              <a:chExt cx="1420560" cy="1189440"/>
            </a:xfrm>
          </p:grpSpPr>
          <p:sp>
            <p:nvSpPr>
              <p:cNvPr id="406" name="Freeform 57"/>
              <p:cNvSpPr/>
              <p:nvPr/>
            </p:nvSpPr>
            <p:spPr>
              <a:xfrm>
                <a:off x="834840" y="46735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8"/>
              <p:cNvSpPr/>
              <p:nvPr/>
            </p:nvSpPr>
            <p:spPr>
              <a:xfrm>
                <a:off x="685800" y="49086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8" name=""/>
            <p:cNvGrpSpPr/>
            <p:nvPr/>
          </p:nvGrpSpPr>
          <p:grpSpPr>
            <a:xfrm>
              <a:off x="2417760" y="4605480"/>
              <a:ext cx="1239840" cy="1189800"/>
              <a:chOff x="2417760" y="4605480"/>
              <a:chExt cx="1239840" cy="1189800"/>
            </a:xfrm>
          </p:grpSpPr>
          <p:sp>
            <p:nvSpPr>
              <p:cNvPr id="409" name="Freeform 34"/>
              <p:cNvSpPr/>
              <p:nvPr/>
            </p:nvSpPr>
            <p:spPr>
              <a:xfrm>
                <a:off x="2466720" y="46054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Text Box 61"/>
              <p:cNvSpPr/>
              <p:nvPr/>
            </p:nvSpPr>
            <p:spPr>
              <a:xfrm>
                <a:off x="2417760" y="49086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1" name=""/>
            <p:cNvGrpSpPr/>
            <p:nvPr/>
          </p:nvGrpSpPr>
          <p:grpSpPr>
            <a:xfrm>
              <a:off x="4038480" y="4673520"/>
              <a:ext cx="1239840" cy="1189440"/>
              <a:chOff x="4038480" y="4673520"/>
              <a:chExt cx="1239840" cy="1189440"/>
            </a:xfrm>
          </p:grpSpPr>
          <p:sp>
            <p:nvSpPr>
              <p:cNvPr id="412" name="Freeform 63"/>
              <p:cNvSpPr/>
              <p:nvPr/>
            </p:nvSpPr>
            <p:spPr>
              <a:xfrm>
                <a:off x="4057560" y="46735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64"/>
              <p:cNvSpPr/>
              <p:nvPr/>
            </p:nvSpPr>
            <p:spPr>
              <a:xfrm>
                <a:off x="4038480" y="49086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3F75E-EC86-4D9D-A4D2-373B9901A72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0" name=""/>
          <p:cNvGrpSpPr/>
          <p:nvPr/>
        </p:nvGrpSpPr>
        <p:grpSpPr>
          <a:xfrm>
            <a:off x="3657600" y="3581280"/>
            <a:ext cx="3962160" cy="2079000"/>
            <a:chOff x="3657600" y="3581280"/>
            <a:chExt cx="3962160" cy="2079000"/>
          </a:xfrm>
        </p:grpSpPr>
        <p:cxnSp>
          <p:nvCxnSpPr>
            <p:cNvPr id="191" name="_s7194"/>
            <p:cNvCxnSpPr>
              <a:stCxn id="192" idx="0"/>
              <a:endCxn id="193" idx="2"/>
            </p:cNvCxnSpPr>
            <p:nvPr/>
          </p:nvCxnSpPr>
          <p:spPr>
            <a:xfrm flipV="1" rot="16200000">
              <a:off x="6123600" y="3926520"/>
              <a:ext cx="416520" cy="138744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94" name="_s7193"/>
            <p:cNvCxnSpPr>
              <a:stCxn id="195" idx="0"/>
              <a:endCxn id="193" idx="2"/>
            </p:cNvCxnSpPr>
            <p:nvPr/>
          </p:nvCxnSpPr>
          <p:spPr>
            <a:xfrm flipV="1">
              <a:off x="5638320" y="4412160"/>
              <a:ext cx="1800" cy="41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3" name="_s7188"/>
            <p:cNvSpPr/>
            <p:nvPr/>
          </p:nvSpPr>
          <p:spPr>
            <a:xfrm>
              <a:off x="5044320" y="3581280"/>
              <a:ext cx="1188720" cy="83160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6" name="_s7192"/>
            <p:cNvCxnSpPr>
              <a:stCxn id="197" idx="0"/>
              <a:endCxn id="193" idx="2"/>
            </p:cNvCxnSpPr>
            <p:nvPr/>
          </p:nvCxnSpPr>
          <p:spPr>
            <a:xfrm flipH="1" flipV="1" rot="5400000">
              <a:off x="4737240" y="3927600"/>
              <a:ext cx="416520" cy="1386000"/>
            </a:xfrm>
            <a:prstGeom prst="bentConnector3">
              <a:avLst>
                <a:gd name="adj1" fmla="val 20761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97" name="_s7189"/>
            <p:cNvSpPr/>
            <p:nvPr/>
          </p:nvSpPr>
          <p:spPr>
            <a:xfrm>
              <a:off x="365760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00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_s7190"/>
            <p:cNvSpPr/>
            <p:nvPr/>
          </p:nvSpPr>
          <p:spPr>
            <a:xfrm>
              <a:off x="504432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3399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_s7191"/>
            <p:cNvSpPr/>
            <p:nvPr/>
          </p:nvSpPr>
          <p:spPr>
            <a:xfrm>
              <a:off x="6431040" y="4828680"/>
              <a:ext cx="1188720" cy="831600"/>
            </a:xfrm>
            <a:prstGeom prst="roundRect">
              <a:avLst>
                <a:gd name="adj" fmla="val 16667"/>
              </a:avLst>
            </a:prstGeom>
            <a:solidFill>
              <a:srgbClr val="99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sential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24080" y="1295280"/>
            <a:ext cx="5791320" cy="20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nagement committed to a quality managemen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500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 organizational structure designed to assure quality go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269244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48199-6148-484B-8977-3DF6A702973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352680" y="3733920"/>
            <a:ext cx="2133720" cy="9903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029200" y="2743200"/>
            <a:ext cx="1905120" cy="7621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lanning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9920" y="4038480"/>
            <a:ext cx="2743200" cy="1676520"/>
          </a:xfrm>
          <a:prstGeom prst="rect">
            <a:avLst/>
          </a:prstGeom>
          <a:solidFill>
            <a:srgbClr val="003300"/>
          </a:solidFill>
          <a:ln w="9360">
            <a:solidFill>
              <a:srgbClr val="bd8d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onitoring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Maintenance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and Improv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rot="5400000">
            <a:off x="1218600" y="2286000"/>
            <a:ext cx="1523880" cy="762120"/>
          </a:xfrm>
          <a:custGeom>
            <a:avLst/>
            <a:gdLst>
              <a:gd name="textAreaLeft" fmla="*/ 237960 w 1523880"/>
              <a:gd name="textAreaRight" fmla="*/ 1333440 w 152388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0800000">
            <a:off x="4114800" y="2743200"/>
            <a:ext cx="914400" cy="990720"/>
          </a:xfrm>
          <a:custGeom>
            <a:avLst/>
            <a:gdLst>
              <a:gd name="textAreaLeft" fmla="*/ 304920 w 914400"/>
              <a:gd name="textAreaRight" fmla="*/ 783360 w 914400"/>
              <a:gd name="textAreaTop" fmla="*/ 570600 h 990720"/>
              <a:gd name="textAreaBottom" fmla="*/ 848520 h 9907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5400000">
            <a:off x="6858000" y="2514600"/>
            <a:ext cx="1981440" cy="914400"/>
          </a:xfrm>
          <a:custGeom>
            <a:avLst/>
            <a:gdLst>
              <a:gd name="textAreaLeft" fmla="*/ 309600 w 1981440"/>
              <a:gd name="textAreaRight" fmla="*/ 1733760 w 198144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685800" y="3505320"/>
            <a:ext cx="2590920" cy="2360880"/>
            <a:chOff x="685800" y="3505320"/>
            <a:chExt cx="2590920" cy="2360880"/>
          </a:xfrm>
        </p:grpSpPr>
        <p:cxnSp>
          <p:nvCxnSpPr>
            <p:cNvPr id="208" name="_s8230"/>
            <p:cNvCxnSpPr>
              <a:stCxn id="209" idx="0"/>
              <a:endCxn id="210" idx="2"/>
            </p:cNvCxnSpPr>
            <p:nvPr/>
          </p:nvCxnSpPr>
          <p:spPr>
            <a:xfrm flipV="1" rot="16200000">
              <a:off x="2197800" y="4231440"/>
              <a:ext cx="472680" cy="90756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1" name="_s8229"/>
            <p:cNvCxnSpPr>
              <a:stCxn id="212" idx="0"/>
              <a:endCxn id="210" idx="2"/>
            </p:cNvCxnSpPr>
            <p:nvPr/>
          </p:nvCxnSpPr>
          <p:spPr>
            <a:xfrm flipV="1">
              <a:off x="1981080" y="4448880"/>
              <a:ext cx="1440" cy="4726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3" name="_s8228"/>
            <p:cNvCxnSpPr>
              <a:stCxn id="214" idx="0"/>
              <a:endCxn id="210" idx="2"/>
            </p:cNvCxnSpPr>
            <p:nvPr/>
          </p:nvCxnSpPr>
          <p:spPr>
            <a:xfrm flipH="1" flipV="1" rot="5400000">
              <a:off x="1291680" y="4232160"/>
              <a:ext cx="472680" cy="906480"/>
            </a:xfrm>
            <a:prstGeom prst="bentConnector3">
              <a:avLst>
                <a:gd name="adj1" fmla="val 2080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0" name="_s8224"/>
            <p:cNvSpPr/>
            <p:nvPr/>
          </p:nvSpPr>
          <p:spPr>
            <a:xfrm>
              <a:off x="1592640" y="35053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_s8225"/>
            <p:cNvSpPr/>
            <p:nvPr/>
          </p:nvSpPr>
          <p:spPr>
            <a:xfrm>
              <a:off x="68580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_s8226"/>
            <p:cNvSpPr/>
            <p:nvPr/>
          </p:nvSpPr>
          <p:spPr>
            <a:xfrm>
              <a:off x="159264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_s8227"/>
            <p:cNvSpPr/>
            <p:nvPr/>
          </p:nvSpPr>
          <p:spPr>
            <a:xfrm>
              <a:off x="2499480" y="4921920"/>
              <a:ext cx="777240" cy="944280"/>
            </a:xfrm>
            <a:custGeom>
              <a:avLst/>
              <a:gdLst>
                <a:gd name="textAreaLeft" fmla="*/ 37800 w 777240"/>
                <a:gd name="textAreaRight" fmla="*/ 739440 w 777240"/>
                <a:gd name="textAreaTop" fmla="*/ 37800 h 944280"/>
                <a:gd name="textAreaBottom" fmla="*/ 906480 h 944280"/>
              </a:gdLst>
              <a:ahLst/>
              <a:rect l="textAreaLeft" t="textAreaTop" r="textAreaRight" b="textAreaBottom"/>
              <a:pathLst>
                <a:path w="21600" h="26240">
                  <a:moveTo>
                    <a:pt x="3600" y="0"/>
                  </a:moveTo>
                  <a:arcTo wR="3600" hR="3600" stAng="16200000" swAng="-5400000"/>
                  <a:lnTo>
                    <a:pt x="0" y="22640"/>
                  </a:lnTo>
                  <a:arcTo wR="3600" hR="3600" stAng="10800000" swAng="-5400000"/>
                  <a:lnTo>
                    <a:pt x="18000" y="2624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990720" y="533520"/>
            <a:ext cx="7391160" cy="1371600"/>
          </a:xfrm>
          <a:prstGeom prst="roundRect">
            <a:avLst>
              <a:gd name="adj" fmla="val 16667"/>
            </a:avLst>
          </a:prstGeom>
          <a:solidFill>
            <a:srgbClr val="bd8d4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Leadership, Managerial 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90720" y="2438280"/>
            <a:ext cx="1981080" cy="53352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Organizational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2819520"/>
            <a:ext cx="167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 rot="5400000">
            <a:off x="5520960" y="1946160"/>
            <a:ext cx="838080" cy="755640"/>
          </a:xfrm>
          <a:custGeom>
            <a:avLst/>
            <a:gdLst>
              <a:gd name="textAreaLeft" fmla="*/ 130680 w 838080"/>
              <a:gd name="textAreaRight" fmla="*/ 733320 w 838080"/>
              <a:gd name="textAreaTop" fmla="*/ 189000 h 755640"/>
              <a:gd name="textAreaBottom" fmla="*/ 567000 h 75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5400000">
            <a:off x="4495680" y="4495680"/>
            <a:ext cx="1143000" cy="1752480"/>
          </a:xfrm>
          <a:custGeom>
            <a:avLst/>
            <a:gdLst>
              <a:gd name="textAreaLeft" fmla="*/ 327960 w 1143000"/>
              <a:gd name="textAreaRight" fmla="*/ 979200 w 1143000"/>
              <a:gd name="textAreaTop" fmla="*/ 1009440 h 1752480"/>
              <a:gd name="textAreaBottom" fmla="*/ 150120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0fc7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39C85-4DD7-4395-BBEE-B5029E000A1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40384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dershi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ercising responsi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thority, w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viding motivatio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v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fluencing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couraging staff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good 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715000" y="1219320"/>
            <a:ext cx="3203640" cy="4724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FBBFEC-E854-4D94-ABBD-EA1808A77DF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Responsib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4582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lement and continuously improve the quality management system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ocument a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municat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 all personne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vide a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manu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3733920" y="2514600"/>
            <a:ext cx="5029200" cy="321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0A829A-02B9-4205-938F-671FD272FF0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276720" cy="250344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agement Commit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4267080" cy="1143000"/>
          </a:xfrm>
          <a:prstGeom prst="rect">
            <a:avLst/>
          </a:prstGeom>
          <a:solidFill>
            <a:srgbClr val="bd8d47"/>
          </a:solidFill>
          <a:ln w="5724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 algn="ctr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3200" spc="-1" strike="noStrike">
                <a:solidFill>
                  <a:srgbClr val="ffffff"/>
                </a:solidFill>
                <a:latin typeface="Arial Black"/>
              </a:rPr>
              <a:t>Ministry of Heal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81480" y="1219320"/>
            <a:ext cx="3276720" cy="459720"/>
          </a:xfrm>
          <a:prstGeom prst="rect">
            <a:avLst/>
          </a:prstGeom>
          <a:solidFill>
            <a:srgbClr val="bd8d4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inanc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na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457200" y="2514600"/>
            <a:ext cx="4267080" cy="26161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31" name="" descr=""/>
          <p:cNvPicPr/>
          <p:nvPr/>
        </p:nvPicPr>
        <p:blipFill>
          <a:blip r:embed="rId3"/>
          <a:stretch/>
        </p:blipFill>
        <p:spPr>
          <a:xfrm>
            <a:off x="5181480" y="3657600"/>
            <a:ext cx="3276720" cy="24447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6019920" y="4648320"/>
            <a:ext cx="1385640" cy="1828800"/>
          </a:xfrm>
          <a:prstGeom prst="rect">
            <a:avLst/>
          </a:prstGeom>
          <a:ln w="0">
            <a:noFill/>
          </a:ln>
        </p:spPr>
      </p:pic>
      <p:sp>
        <p:nvSpPr>
          <p:cNvPr id="233" name="PubOvalCallout"/>
          <p:cNvSpPr/>
          <p:nvPr/>
        </p:nvSpPr>
        <p:spPr>
          <a:xfrm rot="16200000">
            <a:off x="3848040" y="3924000"/>
            <a:ext cx="2057400" cy="3048120"/>
          </a:xfrm>
          <a:custGeom>
            <a:avLst/>
            <a:gdLst>
              <a:gd name="textAreaLeft" fmla="*/ 301320 w 2057400"/>
              <a:gd name="textAreaRight" fmla="*/ 1756080 w 2057400"/>
              <a:gd name="textAreaTop" fmla="*/ 334800 h 3048120"/>
              <a:gd name="textAreaBottom" fmla="*/ 1952640 h 3048120"/>
            </a:gdLst>
            <a:ahLst/>
            <a:rect l="textAreaLeft" t="textAreaTop" r="textAreaRight" b="textAreaBottom"/>
            <a:pathLst>
              <a:path w="21600" h="21600">
                <a:moveTo>
                  <a:pt x="10766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taf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ee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453C4-83EE-4062-A0A8-B924E2D19CCB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rganizational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85800" y="1600200"/>
            <a:ext cx="77724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ablish a working structure tha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ensures sufficiency at all parts in th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laboratory work f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responsibilities and roles;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 develop an organization ch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ignate a Quality Mana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llocate sufficient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Organization-Module 18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37255-34C6-4BE6-AA6C-1FF97F96E43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32Z</dcterms:modified>
  <cp:revision>124</cp:revision>
  <dc:subject/>
  <dc:title>Slide 1</dc:title>
</cp:coreProperties>
</file>